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EB0-4346-47E1-B04F-79861DF0D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BC42-270C-4663-A933-24A1FDFE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9AB-B0B5-43C2-BB10-F53CA822A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ltf.austraining.com.au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age 6 Resource Development: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tiv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ere to find listening stimulus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Magaz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Reading materials, tex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V,film,music,app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ilm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YouTube c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Adverti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une in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Documents and Settings\Merryl\Local Settings\Temporary Internet Files\Content.IE5\7NYNDIUP\MM900283262[1].gif"/>
          <p:cNvPicPr/>
          <p:nvPr/>
        </p:nvPicPr>
        <p:blipFill>
          <a:blip r:embed="rId1"/>
          <a:stretch/>
        </p:blipFill>
        <p:spPr>
          <a:xfrm>
            <a:off x="6443640" y="39276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Let’s look at a sample template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Range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equencing tasks in order of diffi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differentiate the tas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will you keep a record of this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Let’s look at a sample task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s this task a non-HSC sty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to differentiate this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w to provid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s the feedback meaningful?</a:t>
            </a:r>
            <a:br>
              <a:rPr sz="2400"/>
            </a:b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orking in small groups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hoose topic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iscuss ideas for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Brainstorm non-HSC sty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eque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omplete templates (hard cop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Sharing ideas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7280" y="1412640"/>
            <a:ext cx="7491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Each group presents their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Working in language specific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evelop/refine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Brainstorm a bank of tasks related to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Develop fully one or two tasks with feedback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Use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ave on L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1655640" y="3711600"/>
            <a:ext cx="45720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rryl Wah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ducation Consultant K-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vel 12, 99 York Street, Sydney NSW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www.aisnsw.edu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ail mwahlin@aisnsw.edu.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Arial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Arial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55736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Arial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3e6f"/>
                </a:solidFill>
                <a:latin typeface="Arial"/>
              </a:rPr>
              <a:t>Languages update!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87280" y="1412640"/>
            <a:ext cx="7491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1. Australian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Shape paper to be revi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Two strands: Communicating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350hrs mandated for 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326a"/>
                </a:solidFill>
                <a:latin typeface="Arial"/>
              </a:rPr>
              <a:t>Additional languages- Hindi, Turk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326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Australian Curriculum cont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2 - Shape paper re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Italian and Chinese curriculum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Collating of online resources to support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        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Chinese and Italian materials trialled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3 - writing of all other languag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014 –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-29664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66560" y="691920"/>
            <a:ext cx="7777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2. Languages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nline from end of August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losing date 21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st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3. Endeavour teacher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www.eltf.austraining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4. AIS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1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st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May- Getting real i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7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July – Differentiated learning i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27</a:t>
            </a:r>
            <a:r>
              <a:rPr b="0" lang="en-AU" sz="2400" spc="-1" strike="noStrike" baseline="30000">
                <a:solidFill>
                  <a:srgbClr val="1e326a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 August – Une Journee avec Aure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0428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The plan for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The aims of today ar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spcAft>
                <a:spcPts val="75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e326a"/>
                </a:solidFill>
                <a:latin typeface="Arial"/>
              </a:rPr>
              <a:t>To develop skills in creating tasks (non-HSC style) that can be used for formative assessment for Stag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spcAft>
                <a:spcPts val="75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e326a"/>
                </a:solidFill>
                <a:latin typeface="Arial"/>
              </a:rPr>
              <a:t>To develop listening stimulus,associated tasks and feedback strategies that provide the scaffolding for effective and valid summativ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:\Documents and Settings\Merryl\Local Settings\Temporary Internet Files\Content.IE5\YY748Q5Q\MC900439849[1].wmf"/>
          <p:cNvPicPr/>
          <p:nvPr/>
        </p:nvPicPr>
        <p:blipFill>
          <a:blip r:embed="rId1"/>
          <a:stretch/>
        </p:blipFill>
        <p:spPr>
          <a:xfrm>
            <a:off x="4140360" y="4797360"/>
            <a:ext cx="19461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87280" y="691920"/>
            <a:ext cx="7491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Today w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Discuss what formative assessme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Brainstorm different types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Pool our ideas for stimulus listen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Create and refine listening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Develop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e326a"/>
                </a:solidFill>
                <a:latin typeface="Arial"/>
              </a:rPr>
              <a:t>Share ideas about how to provide eff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6920" y="223560"/>
            <a:ext cx="748836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at is formative assessment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87280" y="836640"/>
            <a:ext cx="7491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- 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pportunity for students to demonstrate thei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pportunity for students to rece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umu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What does formative assessment look like in the Languages classroom (Stage 6)?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628640"/>
            <a:ext cx="7491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Speaking practice (beginning/end of each le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In class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mework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Vocab/script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Ongoing projects ( journals, portfolios, blog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e326a"/>
                </a:solidFill>
                <a:latin typeface="Arial"/>
              </a:rPr>
              <a:t>Holiday tasks (all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1e32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2-05-03T04:41:23Z</dcterms:modified>
  <cp:revision>129</cp:revision>
  <dc:subject/>
  <dc:title>Slide 1</dc:title>
</cp:coreProperties>
</file>